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E1B-173C-42A2-86EC-0CE7A7D1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AB8-C4C4-40A6-AA2F-F9DC4B13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884-20E4-4262-91A0-787A017C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4FC-29EC-44F2-BBB6-D2605CBB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155-D0F8-4636-B4EE-34E809C1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3EA-290A-4A51-8052-A8D98066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73A-EF4D-4170-8F54-A693DB43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AA1-5638-4844-A209-A7DAC69A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A5B-9950-4A5C-BE57-7EA4933A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A93-767B-4E41-8958-DC7616DE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16B-B8D6-4A38-8FF1-11E0C738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D4C-C915-465B-A97B-2B601AC9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D2EB-57FE-4AD2-BFC9-C9B064A34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 Classes &amp;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11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ch better way to do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 min( T a, T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a &lt;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b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 = min(a, 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7760" y="1905120"/>
            <a:ext cx="5627160" cy="825480"/>
            <a:chOff x="3047760" y="1905120"/>
            <a:chExt cx="5627160" cy="825480"/>
          </a:xfrm>
        </p:grpSpPr>
        <p:sp>
          <p:nvSpPr>
            <p:cNvPr id="63" name=""/>
            <p:cNvSpPr/>
            <p:nvPr/>
          </p:nvSpPr>
          <p:spPr>
            <a:xfrm>
              <a:off x="3661560" y="1905120"/>
              <a:ext cx="50133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” stands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yp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that is replace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n be anything valid identifi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047760" y="21337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362320" y="2286000"/>
            <a:ext cx="5210640" cy="1511280"/>
            <a:chOff x="2362320" y="2286000"/>
            <a:chExt cx="5210640" cy="1511280"/>
          </a:xfrm>
        </p:grpSpPr>
        <p:sp>
          <p:nvSpPr>
            <p:cNvPr id="66" name=""/>
            <p:cNvSpPr/>
            <p:nvPr/>
          </p:nvSpPr>
          <p:spPr>
            <a:xfrm>
              <a:off x="3663000" y="2971800"/>
              <a:ext cx="39099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ass” is not the right word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ould be more like “type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2362320" y="2286000"/>
              <a:ext cx="1295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437920" y="4038480"/>
            <a:ext cx="5711400" cy="1676520"/>
            <a:chOff x="2437920" y="4038480"/>
            <a:chExt cx="5711400" cy="1676520"/>
          </a:xfrm>
        </p:grpSpPr>
        <p:sp>
          <p:nvSpPr>
            <p:cNvPr id="69" name=""/>
            <p:cNvSpPr/>
            <p:nvPr/>
          </p:nvSpPr>
          <p:spPr>
            <a:xfrm>
              <a:off x="3664800" y="4038480"/>
              <a:ext cx="4484520" cy="119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r knows which versio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the function to compile base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the parameter types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437920" y="4724280"/>
              <a:ext cx="12193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Templat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mplate &lt;class T, int siz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Safe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SafeArray() : m_size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SetValue(int index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ndex &gt;= m_siz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array[index] =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_siz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_array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bRetVa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afeArray&lt;int, 10&gt; myIntArr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tValue = myIntArray.SetValue(10, 4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afeArray&lt;float, 100&gt; myFloatArr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tValue = myFloatArray.SetValue(54, 43.4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ave you a lot of time and effort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ly reus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ype-safe – the compiler can validate parameters are not type-mismat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ifficult to read code or debug 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e saw last class, often you don’t want users to create instances of your bas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? Because your base class is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hould only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em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the chil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solution: make base class construct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ients who derive their own classes from your base class to implement certain fun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Base class CThread that creates and runs a thread for you. User simply derives their own class, and implements the Run() fun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th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implement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rtual Run() function in the base class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overridden by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, you 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user to implement the Run() function no matter what! The usage of your base class is now even clear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how do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ll functions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implemen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re virtual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irtual void Foo()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ss containing a pure virtual function is called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stract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it cannot be instantiated! It is purely an interfac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ctu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tartThread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all pure virtua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Ru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is must be implemented in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int Run()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MySillyThread : public C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mplement parent's pure virtua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int Ru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Hello! This is my silly thread!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is doesn't wor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CThread thread;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is works fi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ySillyThread sillyThrea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llyThread.StartThrea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SDN: Templates are mech-anisms for generating functions and classes based on type parameters (templates are sometimes called “parameterized types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, class, &lt;,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Templat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in for 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in( int a, int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a &lt;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in for l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ng min( long a, long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a &lt;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in for ch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min( char a, char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a &lt;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in for flo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min( float a, float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a &lt;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1:25:37Z</dcterms:created>
  <dc:creator>Antonio Maiorano</dc:creator>
  <dc:description/>
  <dc:language>en-US</dc:language>
  <cp:lastModifiedBy>Tony</cp:lastModifiedBy>
  <dcterms:modified xsi:type="dcterms:W3CDTF">2003-08-23T18:07:59Z</dcterms:modified>
  <cp:revision>51</cp:revision>
  <dc:subject/>
  <dc:title>C/C++ Tutorial</dc:title>
</cp:coreProperties>
</file>